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4C4-8347-4EC2-B6EE-4A739EB1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30B-5D85-45F0-AD1E-364532FC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1CE-6646-4169-A8E4-034B791E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0EE-65B2-48C4-A8AE-856560AE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69B-E977-4301-B49E-A11AA39C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62D-2DA2-4043-BFF6-7E4F0539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F96-8358-48D3-B04D-1EE23440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B5D-C235-429B-9196-5F495D5E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27A-9348-4549-B29F-A023CE2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8B3-F1D4-4754-97FD-534BE73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C5B-23FC-47A5-8143-1D24C62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3C1-61FF-475A-9587-3581CA49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D4BE-4202-40FF-9DEC-005D33650F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e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w and Stable rate of infla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48038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/Dis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999 to 2000 the inflation rate rose from 1.2% to 1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0 to 2001 the inflation rate fell from 1.6% to 1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level of prices rose but at a lower rate than the previous year – dis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xt two years the inflation rate continued to fall (prices were still rising but by a smaller and smaller am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4 the country started to experience deflation (the average level of prices fell by 0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4 to 2005 the country was still in a period of deflation where average prices fell by 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983120" y="825480"/>
            <a:ext cx="41878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885672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o you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period of time did Japa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311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www.google.co.uk/url?source=imglanding&amp;ct=img&amp;q=http://i.telegraph.co.uk/multimedia/archive/01116/PF-deflation_1116125c.jpg&amp;sa=X&amp;ei=k6KwT8ypGIeHhQeW_u39CA&amp;ved=0CAsQ8wc&amp;usg=AFQjCNEloQg40SDn1AVE973qmnWoM32zEg"/>
          <p:cNvPicPr/>
          <p:nvPr/>
        </p:nvPicPr>
        <p:blipFill>
          <a:blip r:embed="rId1"/>
          <a:stretch/>
        </p:blipFill>
        <p:spPr>
          <a:xfrm>
            <a:off x="5675400" y="2205000"/>
            <a:ext cx="3462120" cy="2166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63374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consumers may be pleased with falling prices there are many problems with de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lation is also a bit of an unknown so it is more difficult to deal with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conomists argue that the costs of deflation are higher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D is low businesses may lay off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ices fall consumers will put off 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ms will have to drop prices to encourage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s will again put of purchasing believing that prices will fall further (deferred consum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confidence drops further depressing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a deflationary 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 will also be p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12320"/>
            <a:ext cx="32180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Costs to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one who has taken a loan (including house buyers who have taken a mortgage) suffers from deflation because the value of their deb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ofits are low businesses will find it difficult to pay back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may be many bankrupt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make business confidence even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859280" y="5421240"/>
            <a:ext cx="1727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 Japan Inflation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6875" t="29299" r="31328" b="33787"/>
          <a:stretch/>
        </p:blipFill>
        <p:spPr>
          <a:xfrm>
            <a:off x="3397320" y="1628640"/>
            <a:ext cx="5651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7640" y="83880"/>
            <a:ext cx="4824360" cy="65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easuring Inflation - The Consumer Price Index (C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PI is a weighted price index used to measure the change in the prices of a typical basket of goods and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ontents of the basket are changed each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the UK they use information from the Family expenditur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anges in weighting reflects changes in spending behaviour (the more that is spent the higher the weight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08 fruit smoothies, muffins and USBs were included in the bas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icrowaves, 35mm camera film and CD singles were re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716360" y="5229360"/>
            <a:ext cx="417672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mily Expenditure Surv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representative monthly survey of UK household expenditure used to derive changes in the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BasketOfGoods"/>
          <p:cNvPicPr/>
          <p:nvPr/>
        </p:nvPicPr>
        <p:blipFill>
          <a:blip r:embed="rId1"/>
          <a:stretch/>
        </p:blipFill>
        <p:spPr>
          <a:xfrm>
            <a:off x="5076720" y="1089000"/>
            <a:ext cx="40100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64880" y="127080"/>
            <a:ext cx="8978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Limitations of the consumer price index as a measure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population groups experience different rates of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is an average household and not representative of individual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ighting for tobacco or motoring expenses will be irrelevant for non smokers and those without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does not include hous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tgage prices will be a high proportion of spend of younger house bu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lder home owners will have paid off their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may overestimat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rises may hide improvements in the quality of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s and electrical goods may have gone up in price but this is due to new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2" descr="uk_consumer_price_index_rose_in_october_at_32"/>
          <p:cNvPicPr/>
          <p:nvPr/>
        </p:nvPicPr>
        <p:blipFill>
          <a:blip r:embed="rId1"/>
          <a:stretch/>
        </p:blipFill>
        <p:spPr>
          <a:xfrm>
            <a:off x="2195640" y="4181400"/>
            <a:ext cx="4286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lation comes from sever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directly from the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domestic ec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ce strategies of leading food retailers based on the strength of demand or competitive press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rise in VAT cause firm’s production costs to go up and these being passed onto the consu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from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extern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 price of crude oil or other imported commodities, foodstuffs and bever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s in exchang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lling pound against the Euro might cause higher import prices (remember WIDEC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VAT+rise+better"/>
          <p:cNvPicPr/>
          <p:nvPr/>
        </p:nvPicPr>
        <p:blipFill>
          <a:blip r:embed="rId1"/>
          <a:srcRect l="18500" t="0" r="17249" b="0"/>
          <a:stretch/>
        </p:blipFill>
        <p:spPr>
          <a:xfrm>
            <a:off x="5508720" y="333360"/>
            <a:ext cx="3127320" cy="324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ood-prices-raise"/>
          <p:cNvPicPr/>
          <p:nvPr/>
        </p:nvPicPr>
        <p:blipFill>
          <a:blip r:embed="rId2"/>
          <a:stretch/>
        </p:blipFill>
        <p:spPr>
          <a:xfrm>
            <a:off x="5796000" y="4005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51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3 main types of inflation that are caused by different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99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Demand pull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66"/>
                </a:solidFill>
                <a:latin typeface="Arial"/>
              </a:rPr>
              <a:t>Cost push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cess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monetary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the name suggests demand pull inflation is caused by an increase demand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likely to occur when there is little spare capacity in the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 AD will lead to an increase in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does AD incr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one or more of the components in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aw a diagram illustrating demand p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bized.co.uk/sites/bized/files/images/dpull_infl.gif"/>
          <p:cNvPicPr/>
          <p:nvPr/>
        </p:nvPicPr>
        <p:blipFill>
          <a:blip r:embed="rId1"/>
          <a:stretch/>
        </p:blipFill>
        <p:spPr>
          <a:xfrm>
            <a:off x="5219640" y="1844640"/>
            <a:ext cx="38005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460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t push inflation occurs as a result of an increase in the costs of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y increase in a firm’s costs pushes the supply curve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ost of an input such as oil that affects the costs of all business in the economy increases the SRAS will shift up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ngs that cause production costs to  go up and force firms to raise their prices to maintain profit marg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ise in costs of imported raw materials (e.g. by a fall in the value of the country’s curren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abou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indir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ge price spi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0" t="0" r="0" b="18179"/>
          <a:stretch/>
        </p:blipFill>
        <p:spPr>
          <a:xfrm>
            <a:off x="5119560" y="1413000"/>
            <a:ext cx="375624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475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Cost push and demand pull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t’s say house prices rise and the wealth effect comes into p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conomy has little spare capacity (it is working close to full employ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ption in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gregate demand increases  capacity causing demand pull inflation 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ers will demand higher wages to help them keep their current standard of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emand for higher wages will cause cost push inflation 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er wages may also give households the illusion that they have more mon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will further increase consumption and increase AD 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816440" y="1125360"/>
            <a:ext cx="43038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74240" y="112680"/>
            <a:ext cx="43974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lation i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9900ff"/>
                </a:solidFill>
                <a:latin typeface="Arial"/>
              </a:rPr>
              <a:t>persistent r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verage prices in the economy (learn thi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it meas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using the CPI – Consumer Pri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inflation tar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 o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K is 2% C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ff66"/>
                </a:solidFill>
                <a:latin typeface="Arial"/>
              </a:rPr>
              <a:t>Watch inflation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ff66"/>
                </a:solidFill>
                <a:latin typeface="Arial"/>
              </a:rPr>
              <a:t>Show how prices have changed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1214291337532_inflation-rate-india"/>
          <p:cNvPicPr/>
          <p:nvPr/>
        </p:nvPicPr>
        <p:blipFill>
          <a:blip r:embed="rId1"/>
          <a:stretch/>
        </p:blipFill>
        <p:spPr>
          <a:xfrm>
            <a:off x="4427640" y="2708280"/>
            <a:ext cx="4552920" cy="374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5364000" y="333360"/>
            <a:ext cx="2448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 persistent increase in the average price level in the economy usually measured with the CPI (Consumer Price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Excess monetary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tarists (a branch of new classical economists) believe that inflation is caused by excessive increases in money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more money in the economy there will be higher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 will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this is a new classical theory we draw the LRAS ver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ing money supply (quantitative easing) tends to be a policy of last res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UK the Bank of England has recently (2012) decided on a policy of QE because the low interest rates were not encouraging con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believe it is safe to do this because there is spare capacity in the economy but are watching the outcome carefu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0" b="21375"/>
          <a:stretch/>
        </p:blipFill>
        <p:spPr>
          <a:xfrm>
            <a:off x="5435640" y="260280"/>
            <a:ext cx="412128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796000" y="4896000"/>
            <a:ext cx="3095640" cy="2092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364000" y="3357720"/>
            <a:ext cx="37800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ton Friedman (1912-2006) was a Monetarist who passionately believed that government intervention always causes more harm than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62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ppropriate policy depends on the cause of 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ause is the price of oil then this is an external factor which is out of government’s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t is demand pull inflation government can try to dampen demand using deflationary/contractionary fiscal or monetary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often problems with contractionary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ing taxes, reducing government spending or putting up interest rates are not popular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lags with both fiscal and monetary policy of 1 to 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vernment spending budgets are developed over a long period of time and may need lengthy legislative procedures to make any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6084720" y="1623960"/>
            <a:ext cx="3100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7640" y="127080"/>
            <a:ext cx="626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 /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tary policy will harm some people in the economy more tha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one that has a loan or mortgage and businesses that want to inv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government that is looking to be re-elected will be reluctant to use these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one of the reasons that many developed countries have monetary policy managed by their central bank which is an independent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K MPC need to make sure that inflation is kept within +/- 1% of 2.5% otherwise they have to write a letter to the government explaining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ed does not have an official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hat people have faith in the central bank to keep inflation rates stable or they will demand high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6084720" y="1623960"/>
            <a:ext cx="3100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59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/ Eval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adays monetary policy is considered to be the most effective way of managing AD in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 rates are seen as the best we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is not seen as an effective tool for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vernments have commitments to the public so it is very difficult to cut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any cut in G would take a long time to have an effect on price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side policies are used to fix cost push inflation (as long as it is a domestic iss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really difficult to say which bit of inflation is cost push and which bit is demand pull so policy makers tend to use a mix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6084720" y="1623960"/>
            <a:ext cx="31006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27080"/>
            <a:ext cx="54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Reducing inflation / Eval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ggest issue with reducing AD is the loss of output and hence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tially there is a trade off between inflation and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unemployment is lowered AD will increase causing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nflation is lowered AD will decrease causing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y for managing AD might be best left to automatic stabilizers of fiscal policy and careful changes in monetary policy carried out by and independent centr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www.lonestar.edu/departments/learningcenter/evaluation.gif"/>
          <p:cNvPicPr/>
          <p:nvPr/>
        </p:nvPicPr>
        <p:blipFill>
          <a:blip r:embed="rId1"/>
          <a:stretch/>
        </p:blipFill>
        <p:spPr>
          <a:xfrm>
            <a:off x="5508720" y="1623960"/>
            <a:ext cx="31003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L onl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Inf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425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straight forward if you can calculate percentag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table shows the made up index of house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5 is the base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6 there is an increase of 8.4% so the index goes up to 108.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7 there is an increase of 20% since 2005 so the index is 120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need to take more care when working out the percentage change from 2006 to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not 11.6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(120-108.4)/108.4 x 100 = 10.7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ifference between the two years divided by the original 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3280" y="333360"/>
          <a:ext cx="4038840" cy="29178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126720"/>
            <a:ext cx="842472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bring several indices together in a basket we have to give each one a weigh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eighting will depend on the proportion of income that is spent on that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we take this example on average 40% of income is spent on housing so it gets a weighting of 0.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 work out the weighted index you just multiply the index by the weigh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924280"/>
          <a:ext cx="7056360" cy="362880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718920"/>
                <a:gridCol w="936720"/>
                <a:gridCol w="1079640"/>
                <a:gridCol w="792000"/>
                <a:gridCol w="129708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+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(X+1)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stuf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tai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26720"/>
            <a:ext cx="842472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find out the rate of inflation you need to do the following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index – old index divided by old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is case it would be Index for (X +1) minus Index for X divided by Index for X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ultiply by 100 to get the % inflation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112 – 107.5) / 107.5 = 4.2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2852640"/>
          <a:ext cx="7056360" cy="3629160"/>
        </p:xfrm>
        <a:graphic>
          <a:graphicData uri="http://schemas.openxmlformats.org/drawingml/2006/table">
            <a:tbl>
              <a:tblPr/>
              <a:tblGrid>
                <a:gridCol w="1439640"/>
                <a:gridCol w="792360"/>
                <a:gridCol w="718920"/>
                <a:gridCol w="936720"/>
                <a:gridCol w="1079640"/>
                <a:gridCol w="792000"/>
                <a:gridCol w="1297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X +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for year (X+1) times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stuf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tai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00_F_15629419_D0yXkiKqqt3J1oxQNH7grqXflFCEHedL"/>
          <p:cNvPicPr/>
          <p:nvPr/>
        </p:nvPicPr>
        <p:blipFill>
          <a:blip r:embed="rId1"/>
          <a:stretch/>
        </p:blipFill>
        <p:spPr>
          <a:xfrm>
            <a:off x="1187280" y="3429000"/>
            <a:ext cx="3095640" cy="2470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202680"/>
            <a:ext cx="534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homework do some research on inflation in your chosen count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 – P241 1a &amp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 – P242/3 Dat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 rot="492000">
            <a:off x="5709960" y="236160"/>
            <a:ext cx="3213360" cy="22269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10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 rot="20896200">
            <a:off x="5860440" y="2583000"/>
            <a:ext cx="2858760" cy="393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fect 15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veloped diagra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for and against wit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www.google.co.uk/url?source=imglanding&amp;ct=img&amp;q=http://www.cbc.ca/news/yourcommunity/hi-584-purchasing-power.jpg&amp;sa=X&amp;ei=8J6wT5XgK8bQhAfQ78jvCA&amp;ved=0CAsQ8wc4QA&amp;usg=AFQjCNEqa32ndhGvUGc-QjnoZc8AqDABFQ"/>
          <p:cNvPicPr/>
          <p:nvPr/>
        </p:nvPicPr>
        <p:blipFill>
          <a:blip r:embed="rId1"/>
          <a:stretch/>
        </p:blipFill>
        <p:spPr>
          <a:xfrm>
            <a:off x="5364000" y="1773360"/>
            <a:ext cx="4857840" cy="2977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511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a significant number of negative consequences associated with high levels of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oss of purcha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te of inflation is 2% the average price of all goods and services in the economy has risen by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r salary/wages stays the same then it means you can buy less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urchasing power (the amount you can buy) has been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 we say that you have had a fall in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re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come (income adjusted for inf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www.google.co.uk/url?source=imglanding&amp;ct=img&amp;q=http://www.cbc.ca/news/yourcommunity/hi-584-purchasing-power.jpg&amp;sa=X&amp;ei=8J6wT5XgK8bQhAfQ78jvCA&amp;ved=0CAsQ8wc4QA&amp;usg=AFQjCNEqa32ndhGvUGc-QjnoZc8AqDABFQ"/>
          <p:cNvPicPr/>
          <p:nvPr/>
        </p:nvPicPr>
        <p:blipFill>
          <a:blip r:embed="rId1"/>
          <a:stretch/>
        </p:blipFill>
        <p:spPr>
          <a:xfrm>
            <a:off x="5842080" y="1773360"/>
            <a:ext cx="4857840" cy="297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6080" y="188640"/>
            <a:ext cx="5689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Loss of purchasing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f your income was linked to the inflation rate you would automatically get a 2% cost of living increase which means your real income has remained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f you worked for a company that had a strong union this may be the case but lots of people do not have inflation linked in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elf employed, weak trade unions, fixed incomes (old people on pensions/unemployed on benef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xpected rates of inflation are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f your company expects 1.5% inflation and gives you an increase of 1.5% but then the inflation rate turns out to be 2% your purchasing power will have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www.google.co.uk/url?source=imglanding&amp;ct=img&amp;q=http://4.bp.blogspot.com/__I4vYMAL2yQ/S_arqZjySgI/AAAAAAAAAjw/tFhNKLWRvZE/s1600/Savings.jpg&amp;sa=X&amp;ei=pJ-wT92nGMi2hAf376X_CA&amp;ved=0CAsQ8wc&amp;usg=AFQjCNEqUz7Ew0pwf88Ed1dqwpUeFsuQUw"/>
          <p:cNvPicPr/>
          <p:nvPr/>
        </p:nvPicPr>
        <p:blipFill>
          <a:blip r:embed="rId1"/>
          <a:stretch/>
        </p:blipFill>
        <p:spPr>
          <a:xfrm>
            <a:off x="4216320" y="549360"/>
            <a:ext cx="4915080" cy="5657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Effect on sav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you save $1000 in the bank at 4% annual interest you will end up with $1,0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 inflation rate is 6% then the real rate of interest (the interest rate adjusted for inflation) will be negative (4% - 6% = -2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r savings will not buy as much as they did the year bef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 would have been better to spend it than save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 will have lost purchasing p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flation therefore discourages sav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eople will buy assets such as houses or art which will be worth mo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s the bank uses savings to lend to others – less saving will mean less funds for inves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s may have negative implications for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5338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hy worry about inf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Effect on Interest Ra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mmercial banks make money from charging interest to people who borrow mon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there is a high rate of inflation banks will raise their interest rates to keep the real rate that they earn posi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Effect on international competitive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a country has a higher rate of inflation than its trading partners its exports will be less competi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mports from lower-inflation countries will be more attrac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s may worsen the balance of pay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s could lead to unemployment in export industries and industries that compete with impor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google.co.uk/url?source=imglanding&amp;ct=img&amp;q=http://www.buytolet.com/wp-content/uploads/2012/04/interest-rate-increase1.jpg&amp;sa=X&amp;ei=FKCwT8zsEInDhAetyansCA&amp;ved=0CAwQ8wc&amp;usg=AFQjCNE59t_mPKSO9ZuZVIGhnUSnMhtKBg"/>
          <p:cNvPicPr/>
          <p:nvPr/>
        </p:nvPicPr>
        <p:blipFill>
          <a:blip r:embed="rId1"/>
          <a:stretch/>
        </p:blipFill>
        <p:spPr>
          <a:xfrm>
            <a:off x="5589720" y="5493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google.co.uk/url?source=imglanding&amp;ct=img&amp;q=http://3.bp.blogspot.com/-kIhg4cdaFxw/TywfHFcm5wI/AAAAAAAAAwQ/EL6A8pDBqs8/s1600/overpriced-2.jpg&amp;sa=X&amp;ei=MKGwT_WnA4aXhQf9orDiBg&amp;ved=0CAwQ8wc4VQ&amp;usg=AFQjCNEbUMcFfIMKGUVC8ELEe505Doqg3g"/>
          <p:cNvPicPr/>
          <p:nvPr/>
        </p:nvPicPr>
        <p:blipFill>
          <a:blip r:embed="rId2"/>
          <a:stretch/>
        </p:blipFill>
        <p:spPr>
          <a:xfrm>
            <a:off x="5589720" y="3860640"/>
            <a:ext cx="353844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46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good deflation and bad de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Good de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comes about from the LRAS shif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utput will increase and price levels with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assumes that AD remains 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will also give a lower level of unemployment (derived demand for labour from the increased demand for good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364000" y="333360"/>
            <a:ext cx="2448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 persistent fall in the average price level in the economy usually measured with the CPI (Consumer Price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50004" b="12094"/>
          <a:stretch/>
        </p:blipFill>
        <p:spPr>
          <a:xfrm>
            <a:off x="5099040" y="2637000"/>
            <a:ext cx="38862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www.google.co.uk/url?source=imglanding&amp;ct=img&amp;q=http://www.marketoracle.co.uk/images/2009/July/deflation-6-5.jpg&amp;sa=X&amp;ei=-KGwT6KrJ4KnhAfs-ZzgCA&amp;ved=0CAwQ8wc&amp;usg=AFQjCNE5tG4yJqqrLwaH1B3aaG-_rzEzbA"/>
          <p:cNvPicPr/>
          <p:nvPr/>
        </p:nvPicPr>
        <p:blipFill>
          <a:blip r:embed="rId1"/>
          <a:srcRect l="9660" t="11465" r="6236" b="6294"/>
          <a:stretch/>
        </p:blipFill>
        <p:spPr>
          <a:xfrm>
            <a:off x="4975200" y="2349360"/>
            <a:ext cx="4165560" cy="2984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560" y="6156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ad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es about from AD sh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wnwards shift of AD will result in lower price levels but also lower output (less grow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uld lead to an increase in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 for goods and services will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is a derive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eople think prices will go down they will put of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y see prices fall this will confirm thei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ill further put off consumption and AD will keep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12320"/>
            <a:ext cx="540036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has a problem with de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nks collapsed due to bad debts and bad investments in their own sto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ople built up precautionary savings in case they lost thei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epressed consumption and 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est rates were cut to 0.25% but it didn’t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amage had been d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and business confidence crumbled with people and firms reluctant to sp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n’t confuse deflation with a falling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inflation (this is called disinf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71509sleuth1"/>
          <p:cNvPicPr/>
          <p:nvPr/>
        </p:nvPicPr>
        <p:blipFill>
          <a:blip r:embed="rId1"/>
          <a:stretch/>
        </p:blipFill>
        <p:spPr>
          <a:xfrm>
            <a:off x="5435640" y="2284560"/>
            <a:ext cx="3263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5:32:27Z</dcterms:created>
  <dc:creator>Rom</dc:creator>
  <dc:description/>
  <dc:language>en-US</dc:language>
  <cp:lastModifiedBy>Julia Peters</cp:lastModifiedBy>
  <dcterms:modified xsi:type="dcterms:W3CDTF">2012-05-15T04:02:10Z</dcterms:modified>
  <cp:revision>38</cp:revision>
  <dc:subject/>
  <dc:title>Slide 1</dc:title>
</cp:coreProperties>
</file>